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B8F-467F-4E53-825A-FCF386D2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86B-0051-4B0A-B193-CEA8C3AB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EDF5-4317-4FCF-9BB2-047844A6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04D47-124B-4FAF-8625-EC702D51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09955-F8C4-4900-98BD-5E3B2686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9DDA0-0A8C-4065-9977-AFDAC7A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B0E48-A9DA-4006-94AB-C12D0322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8B597-6846-46E0-AD4C-D346DA4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3BD04-BC0D-43E5-B5C2-565EAE9A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C1061-21F5-4142-AF64-11554260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B182E-480D-4685-8103-02F52657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D9B5E-B024-47AD-B300-97A84B12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851-A18A-4852-B126-224AA722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B8E97-5891-44E6-864B-613A1A21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42C2D-FB86-4916-ABB9-D230386E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515E0-9C65-414A-A558-B96855FC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A35BA-D31C-47A1-8975-53181284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DA01D-5A0B-43CA-A1A6-FB5FDD7C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257B4-5327-4F17-A417-D5F96223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257E9-82EA-454F-8303-1DD60AD3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1A426-C8CC-4ADD-A77B-6973F6DE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78C40-D3ED-42BB-B1F8-61D2F197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EDC2D-8774-45E4-880A-159A3EC2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5DB-B722-42F1-81EF-313FF577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08D5B-AA5B-4A76-931D-EB3D42A5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F4CBB-E7F0-429A-B3B7-9196BC35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181CA-1D25-4D2D-B526-E8281031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74F9E-C428-4D3B-9AB2-95204334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F992C-9BBC-4B25-B321-2A9A28A8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61A18-98A8-4F7F-8732-BE5B024A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FA341-172C-4144-B293-21E3EFF9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68008-7B66-45ED-8E7A-736C9B2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41114-6410-4904-ADEC-C2FD1D3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C6459-5AC6-4E7F-8B4D-B541BFC4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495-CCD7-49C3-B22E-193A3DEB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44ACB-54A9-4AF8-AC04-4A72F805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7D427-DEF3-4564-B3CF-3E7356F3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BE176-CFE1-4A36-B59C-D45C1C9B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F3030-2066-40F8-A008-35879B43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324C3-AE26-47C2-9180-BE6EAF8B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D8FC1-90E7-4E00-8830-99F4BF81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688DE-2215-45F1-9070-C9DA6BEF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485CE-C0BA-4659-8B19-23ADA87D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1F4EB-19C6-4DF7-9159-13DB1763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D77B6-642F-4746-BB77-4F91FF5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2CA3-A802-456B-9CD1-7FE94F68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CA666-B6C1-45E0-A494-9D02F36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D5153-B80C-4D99-B4AE-2DB43A67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359AF-C7BC-45E1-8A35-4408F68F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B17CE-985F-4BCE-9858-1360A963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17444-8C0A-4997-A2CC-E4AA1A3A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13DE7-21EB-43D0-8F43-4C0245E7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5DEF4-E7E8-4599-8A00-55C93294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C7200-8667-4CEC-B9CA-08B03B5F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BE851-52F8-4B60-8229-F0402FAB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D2EE5-FAE1-4FAE-A47F-97D0441E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B898-6DBC-4BD0-A919-3390ECE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E39B5-A820-4AF7-AE91-D213D7B9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37C4A-B252-4A0C-ADCC-1C614E90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250B3-0B94-46DD-860A-A9616518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AF101-4AA8-4E85-B773-F8E4DB92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20F83-CB68-48AF-915F-41CF8C24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B5CE9-3709-4AA8-93F0-30C8D69B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FCD35-493C-4086-B77F-0BB0A0E6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E0330-6764-4C34-95BE-530285D9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A2FFC-1B69-41C7-996D-F6BC6459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D3408-D274-4CD4-A091-9343C57C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4326-E553-426B-BE52-1A9A1505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37EA8-59B0-48AD-943D-FD3EBA53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D0FBC-542C-421B-BEFF-24225528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14F91-506B-4A55-824E-F84E66F4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B34A3-E9F2-40DD-B9BE-5D8B7E5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1F7F6-E2A4-41C7-8A7A-D011A335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B2188-D5BD-4F2D-A872-E27D2BBB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57A96-4760-454A-A9E3-7F3C9330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05755-13F2-4E27-B7CB-E4D23F92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EBB27-2968-4D3A-8320-EBE60893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D86C9-90F3-4E89-8049-0A924D7F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C0A8-B113-4BC4-B645-A5267115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A234F-0DA9-4E99-BFB6-7A8D2D17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84290-CA05-4529-B7E2-C44313D0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69B9C-0D28-4850-B29D-282A98DE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C86A6-5DCA-483A-937C-C2CCE87A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441FD-C6FA-44D1-85AF-B23077E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E5ED7-774F-4FA8-9F3D-EC9711B9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21435-6BEC-447B-944D-0D0537A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4CD25-AC48-49D0-BFA6-A3F0510A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58453-D3E8-4873-B78F-33B45C2A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02AAF-E0E7-4854-9065-CEAB26CD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28B8-6582-47F9-B9BF-528FC712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C53F1-EC8F-4AA3-9383-BD938BFA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3FC26C-262D-4D92-893D-A390FC78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2FB84-1310-4AAB-8A85-D4910E06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0BF08-279A-4336-A634-35A8734E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C0C3B-AA16-4B4D-AD0B-79D0EBF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82FD3-C75A-4520-B4B1-1AAF12C8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FCF81-998C-4380-B7DE-E2C2D82D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38FE6-0FFD-4CA9-B2A7-9030BA4E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C57DE-A6FE-4B9F-9DFB-4471294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ABD4E-66D4-4325-B0ED-55E1B8C4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3FB7-5295-4CD9-B3C1-3035A49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D826D-B7AB-4872-9071-2BD6B91F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69503-D902-4F9C-B9D0-944619E0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38E80-C6AD-43EE-87D1-874DE72F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550604-AA15-40DC-8042-319ACA37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F9A5E-C88D-478F-B4D3-1886B72E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77A3C8-D545-4A7F-90B8-7EDED9EA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69B354-234C-4F90-9E9B-AF9A6C6B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6CA7B-17B3-44A6-8FCE-7AE4E4E1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DFFDC-B27B-40C4-87F9-EC11A4F3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08962-C3FB-4A87-B4BF-BF84B15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864-02F3-4781-9578-EAAF2E0F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95CE-1842-488B-9D18-FC53C89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44778-F6BE-4B32-8BBF-6A22F14B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17FBB-2931-4A61-B6FD-4802E497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B85CE-C0AF-496F-84CB-F0642BB5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175D9-6593-4EFE-AC48-72740E90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9CD9B-A000-4D9E-AC14-56A34FF6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033B8-198C-46E5-ABF0-3BD4DDF1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5B33F-3BC7-46E7-BD8C-663EE778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A1F66-48AE-42E6-BDEF-09D3BAAA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50C1E-6528-46C5-961E-3E1ED61E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E2CA49-8C93-419F-AE0D-A855091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BB00-C511-4ED8-B3CA-9177E60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14433-7BD7-480A-B374-2BE0F0C9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B1E65B-C91B-4A53-86EA-8CC31C85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BC201-62A4-4F0E-8CBB-8C71B4A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02F6B-F1C5-414B-B173-5FC5D8E6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7332F-03A7-4F11-B3EA-80728792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3CBFB-E56C-4F79-944B-BDE8387F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C7054-D9B3-4DC2-A7DA-127FC82E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2BB30-17BB-4D01-9A8C-AE2F6E1D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185E8-7AF7-4038-BE99-8305615E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8664A-96B1-4BB1-9AAC-463268A3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D155-0C03-4C62-A697-B0FDF870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67131-1A17-46B8-B5F8-C9534255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AB811-38A0-4F23-A351-2EDB757C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BD198-EDFD-4581-8E8B-CC67EF7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9DEA18-810D-4BD5-A670-13DA4C9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A618A-3C8A-445B-B2CC-E9DDA596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B18BF-CB76-455F-9F9E-4524368D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901667-5EE8-4C6D-BA70-CD1BBD9C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8B02C-1212-4B9D-9A4B-13465CFC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0CD5F-FD8B-447D-842A-5564FD44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5119C5-C7A3-4ABC-9E9B-663D0E07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F06-49DB-4DD2-B56F-3BE9578A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DB6DD-3F5B-4DCC-9BE0-8BE7CE13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E5865-232B-4800-AE6B-8DC2A72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015309-2362-4456-B6BE-8AF85BD0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B32851-6B85-4B02-9EF1-D6794BAD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4DF52F-7F21-4E5F-B280-684D1F05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2BA59-79F0-4284-809C-C6701A9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FC249D-6126-4BB0-9668-88B47F8E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00EBF6-7421-4A59-95F2-510AB29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5A1AB-99E0-479D-B7E0-30C0F03B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3F48D-8D6B-46B2-AA2D-88602142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A9E5-B17A-4E9E-917D-7366F30A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A75B5-03A7-4B15-B740-E8423657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82EED-2D3E-40DA-906D-614ACA4E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EC1205-4F47-4C13-9B8A-930AF5A1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13B340-3567-4F6A-93AA-A0AA429A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5BEF8-52A6-4FDB-8B6E-F7B104EB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71B2A-2BA3-4F74-ACB1-0C53722B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E0169-EAC2-49DA-AD38-C3C201F8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B0C65B-5D49-414F-BE66-9F1E4B26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1B3533-37B4-4A00-B6C2-7FCBADE5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C814A-1ADC-4CB9-AD77-E054A72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FF90-10E2-4889-9E7D-3D68C724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2FE6C-459E-4B23-80E0-CA8DD090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21E64F-571E-4166-9B3E-5008E7D9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051102-0E03-4C77-8463-FAE8F197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A6CA6D-DA0B-48DB-B23E-E0C9B29F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3255F4-4FB1-41B2-9B75-4FEF9750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DE84D0-97A8-484B-B81E-03C28D72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D74C1C-2405-4DE8-AEC4-5D0B5205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AA834F-188A-486A-A53B-D19EA3CF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93243-00C7-4047-BE6B-877F01FB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8FCE7A-3E80-47C2-BBD5-DECE9D0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52E0-9DF5-43FF-873F-1690DE5C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5A68A7-2D1D-4A60-9E7E-75B45C0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9A9025-07B2-4981-AA6D-7DBA05E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8959CB-A650-45CB-A25A-1A8E9CC5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48E0B1-8214-4DB4-B536-F13F1277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C78373-04A6-493F-A1BA-ECC03E83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760BDB-64C3-4CC3-9CBA-13FA241C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0F274D-D7A6-4AF9-BEFB-996FCD9F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381204-E5F8-443E-832B-77059A9E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B644AB-A3DA-419E-85B1-525F7A33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A2ECF9-2EC9-4D1E-8F5F-9924CE99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C183-7BB8-4906-B44D-B8B660DC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744126-7A30-4E1A-83F5-7675EAFE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C043F-433D-4EDA-94FB-17986062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F2A012-5E09-40C4-9314-209525DA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D9EC58-6A8F-49B7-85C6-9954C35B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58FA0-7A21-4DD7-A798-7D8C014F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AE1FC3-F4BA-4DE4-AD8A-0CB8E05F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0DC938-0644-47EC-A23A-7D69EC16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2B6EC2-C521-42C1-A925-ABE26D3C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4F210D-6D85-46FE-882E-684EF6ED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52E2E4-FFA1-4102-98AD-B2C23FE0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F3014-73C5-45D7-A434-527B775F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975BD3-6849-43A7-B6A5-F3EE3E2C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7D3F00-4653-4E07-97A2-BB7DA9F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F82BAC-AC82-4C04-B24D-40ADF8E1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00B926-4510-4C42-9187-67A033A8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F9E920-5207-4D03-B3B1-E04866B2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60A974-3A18-4B58-9349-90DB3C8C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62F101-5BE7-4FF2-A89D-B2AE568E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381E72-4561-48B8-A2DA-5DFA66E6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FA28A7-08C5-4126-A326-B3C6C1B0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03C685-FE37-4F3D-901F-E174E4C3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D41B-CB72-49C6-8153-B0391A7D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4CAC27-F8DB-46F8-A1B6-99F5FBFA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7604F1-19C4-4A12-9BCF-13E79646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C3375A-436C-454C-AE1C-8B30B72D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C8896D-CD1B-4D4C-9996-2C72F5A3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16626C-3D44-4A5E-8957-C5E702AA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BC4C8B-5831-4B24-8DA4-F28B9E0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E5DAE4-85A6-4805-9EFD-F4D8F109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6CBB77-06B3-496A-944B-14485952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31A4E5-C3B8-4957-91F8-105C4E1B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6B46DA-32E8-4752-BB55-4FFFFED1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6DB-AD24-423C-A35D-D77F3725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0713-D107-4A42-855A-35C28B22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7925ED-D2E6-464F-B1E5-21D4D4A0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C62D5C-2367-44B4-88E8-D10ABB02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E7BDC6-9938-4758-BC68-45C42CC6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2670C4-DF97-405F-AD55-3BF47746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63A8C8-D9B2-4C03-8A4B-B136E4EE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736E30-C39E-44CF-B933-2E7E37E8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6E6A72-C544-4F25-9FDB-E4A4655D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476E71-C1FA-4DF7-B6ED-2013C8D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8FF379-442C-4734-84A3-D0E80C3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702196-53F2-4CDB-AF98-4596685A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9FD4-EEE0-4B7B-8FE2-F8D0D566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34BAAC-56FB-4EE3-A2E1-56284D5A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BE9BF5-0496-4F49-B90C-27A20344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0F795F-ADBA-462A-961E-EB63F9E8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B91975-0716-4FEB-9ACB-AF425B5E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098BF2-96AE-4FD8-B47C-8321788B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4C30B7-BA7D-46D3-879A-090704F8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54B88C-8802-4420-B0BF-10250095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9707EA-6DE2-4493-870C-C6B47517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E9D26A-5D5E-494A-AA47-76BC73B5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5C91AD-A9E8-4E7C-A1AF-785EF15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5195-C6AB-4D26-B17A-9EEF2693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74D1E9-C43F-450D-936E-3E8DCA66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DBB5E5-48F2-4599-B217-BFFB0FDA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44BF58-B81D-4138-91CF-288319E7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B42E85-E5FF-418C-870E-CA6DAD3C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08CFD6-D371-412B-A4B4-2E0631CD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091D0A-E194-44A0-B55F-5DE36F60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08BEDD-397E-409F-B92F-5B83DBAB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573900-17BD-40CD-B43E-8B41147B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19DD27-A43E-4D5A-AA14-4120A07A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729D26-564E-4238-A8C6-4C799B3C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21B4-381F-41AA-9B32-60256E62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768EF5-5C18-4C1B-A23F-A30EE15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C71DF5-4FEF-43C6-8815-B12F6A1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9202CA-B600-47F0-9E1F-6F1CF632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847071-15C0-42B6-AA56-B9870DD1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449C70-BCD6-4CB7-A890-479ADDBC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93E30A-FAB6-4260-B97B-726BE283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9F6E4D-3B05-464B-A346-6093E8F5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D5A6D1-D530-4EDB-A914-CE78A2C1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E53D8D-9EA4-486F-BA7E-AF52DAE2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62FB09-F5DE-4091-9E09-0B261560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644F-23CF-4E87-ADA3-FA71E096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3BC737-6035-4F16-9ED3-67B962F0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5A2C37-35F2-4D62-BC38-2BE3BD53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640B9D-0DD6-4641-BDEE-61F1E551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F5A45C-6B57-40C0-BAF4-F717056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DF0C45-0B27-4EB4-A18A-632109BD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F8D1DA-B503-44AF-9215-7199AE87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23A8E2-116C-40A8-A92D-78D7611C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37BA9D-A9E4-493E-BC31-7EF4BE62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F013BB-D144-48AC-A60B-C6034869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419E26-970F-4C7F-A3F6-7F02AFCE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018D-40B9-4C0B-BC24-5853E1E9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7DE9DC-373F-47F1-8340-CBEB911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23DE1A-A618-4521-93E2-E835C77E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5D30AB-FC97-4FA3-9F33-E8EF063F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328370-88DD-4E7E-84A7-099B1DB1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CE79EA-33C9-43CD-8E93-E275FF03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821D45-D788-449D-9F61-FB9B2809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12D68C-3761-46F6-95EB-CA2B3378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7CF411-B5C7-4EE9-8DE0-61560E28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2BB44D-CBF0-406E-B90F-748E3176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DC62EF-E152-4582-BE78-92D8B6CD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BFCE-312C-49F5-AE4A-D16EA731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B6B00B-18D8-47AB-B548-76689626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8CA17C-8FE4-4960-90B1-03E54096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38E72A-B61A-4290-B5A6-C6CFF351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54D76E-31E4-4156-83F9-4BB0A350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D497FE-B8AD-4BD4-9997-3DAB9EF2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5E11A1-7D8B-49AB-838A-C8FAE125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76B5E6-B79E-43FF-8CEE-674ECB61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F88050-303E-43A5-8630-BBF315A5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D88517-7855-4C33-9B7B-B13D09D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192F3A-59E4-4943-BF6D-E0D677FB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9D47-3B6D-4EF0-BB42-D0C98CA9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427C22-82E3-4033-A10A-EFD0CC15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121940-AE0D-4A01-BEEA-632141A6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18F3BE-FB48-4369-8ED2-EC00989F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7F73-7579-42D8-A248-D84DCE04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620C-8D45-4A7B-A072-774F8E43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BD6-C00B-47EF-AE1E-47B42F87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A959-ED48-4213-AD47-5F88D7EF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0BA3-FC6E-4283-A6F0-7644ED81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7A472-ECF7-48D1-835E-6A764CB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9106-A22A-4292-9FAE-FAB91B9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44058-E5F3-4DD5-9035-1299DEF4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7B10A-7791-4A7E-8668-5C970E7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74C8-46A0-4DC8-98C2-3EAB9802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E4AD-5BDA-4642-BC9C-7CB5D5BB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F180-CC2F-42BE-9F20-4CCD8764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B11D5-0F4E-439B-8E10-D720E780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BA7-BD88-4A2B-9C19-C125A598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AD3B3-881F-4014-BBD8-49362CE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F719B-2318-4BF3-A69C-442E8B74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45268-402A-4FB1-958B-8F007028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E5E7-554A-4906-BDCF-9FE5AE3A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4C78D-F332-4E4C-9E10-DB5BD04D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95E56-8216-4B53-9E4F-2A3435D3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AD24-538F-44B2-B455-4FEA0DB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1977F-4A2A-4166-A6C1-769B5C79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16537-9BD9-4FE1-BAEE-C6216B21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9E31-3E89-49C4-9BC5-76E147C0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7B8-20CF-4B19-B855-3381ED4E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E53C-E226-499C-93CA-A0A84231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AA576-88BC-4A02-A801-7986A176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5C182-AB6F-49ED-BAD9-7BCB82D4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8E5D4-AB1C-4F38-9A07-1FE53914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0675E-E1D6-4E5B-9568-99584C69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8067-5D31-4E89-B20C-767292EE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98D9C-3E52-4E8E-81FF-228F4EC8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88260-7569-44CD-809A-A5611DAB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C615C-F7AD-476C-A37D-1709457D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4B0C-21E6-4D28-A158-7E4DA5D7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E95-BE5C-4AFF-AC68-9D5D68A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E4C8F-B63F-4327-A575-17BE0D11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74F2F-6E73-49AE-801E-2E3F5B89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0BE16-2364-42C2-9EE3-8DCEF320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492F-D162-4A2D-8C35-312DDA58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53FE-C918-45D5-A384-DBB9BE8A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4618A-919E-40F4-A5CB-6D7EE579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281B-6E3E-4BF6-9255-30486052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18514-9659-411C-A3F5-6FDCECF4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8D6B3-C5BA-441C-AD11-DC7DA624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4002-6496-46C7-BC45-850D2CA5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50C-79DE-4B44-A6C4-384C7CFF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0E09E-37F4-4FEF-A0B8-279F175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2E44B-BFC5-41D6-9CBF-6D5261E9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2CEA7-0E99-4D63-9073-ACB8368A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FDDF-EFC3-46CC-A868-EF69DCC4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E1A09-3232-43A2-91B0-11747693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4138A-D6F4-4C1C-9A87-A4427E2F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D55D6-771D-48E6-AE7B-DC7A5731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1398B-B355-418A-BDA5-62274E95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BB632-A6F3-438A-B01F-431D2AA9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B62A4-41D0-44EE-95D6-3B5AB914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F88-DA61-4F2D-BD4E-CC14ABC2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900E8-343D-4E98-904B-F058D793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31B55-C814-4882-9FEC-D35C17F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952A5-376A-412F-A792-12D86A2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4C1E5-214C-4607-9200-10BADDED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E88F9-2718-4D95-AB28-20775E71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B9766-43F1-420D-8924-4A7209F5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EA15B-D088-4D27-A213-3E433C76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5A42C-5D0E-4B48-A2F2-CADAE224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7F768-853A-4C4C-86A8-EB5858FC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6C447-69D6-4D35-BBBE-249F9774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97B9-C7B5-4507-A6AC-8A06CCDAA0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32C5-750A-43E3-9B9C-0107569E0D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2E67-D0A0-4D69-A648-174280B867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0D2-4C71-4CBB-9001-CC6375B985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2C0F-2B09-414C-A3AE-7FBF41887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29D6-F1B3-44CA-B85A-E190213A6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E770-C51C-4EC8-9C12-A7A6EAD26A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C821-9F50-493E-9E72-99ACC2DF2A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A8B7-9BE2-4C6B-9807-9CCDB9E5C2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F089-3A7F-44F6-9D55-B2CA7B85A9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3ACF-A47C-470C-BFDB-EF7562BC0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2F10-58A2-40DC-8C40-5E0031A10A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FF66-5D49-4082-9EBC-6D7CF87C0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10A7-519A-4E42-986F-63F428BF83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0C2A-A48B-432A-950D-11C5967EF8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55E5-543F-4067-8268-4246545DC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DC6F-94E9-4C7C-961A-E843A0878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21C0-6F88-4447-ACDF-18D44E6B3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F198-8C25-442B-A41D-BFBCAD1D1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61C7-9EC9-4F4E-A86B-2D8F27C9B3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ED60-1F3F-42AB-875B-DC04748BB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58D0-30D1-49C2-9FEF-F43A760F43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1CFB-C689-4297-8C7D-4F3B42B35A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1C11-8106-4091-81AA-DAF1B1E89C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92B-2356-49B6-B626-A7E0AD87D7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2691-15E1-4677-BA38-C7ABBE59A4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CA05-ADE2-4076-A0F6-96D1DAF7C1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6FF0-8655-460E-A9C0-8B909727C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B9FF-947E-41CF-9D27-E61EDD2CC5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36D4-E242-442A-B814-2DD59C3FD2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3BA0-5277-4FD0-8C13-32CD21F3C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442-123A-4933-A1C6-0CE16CC571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7DB4-9D8E-4A41-B0BD-97967B36B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3409-E6AE-449A-A567-D89778C54B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70BB-E8F7-4482-94C7-57076F0288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6BD5-B144-490D-A665-81AA45E329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4913-010A-4DC0-B156-9B540F1D1E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8DC7-12AD-4A6A-A6D4-E18E1C928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D523-481C-4F45-BACA-F1C61DC12B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1921-856D-4602-AFBC-89BEAEC66A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8C8C-54DC-4794-A2B3-A72339DDE4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18E6-10A4-406B-A573-3884E19AFC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98E-B4DE-4BB0-9A9C-82DC651B6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AA69-BC9E-4AB6-BFFE-A6E4E8E2FD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3023-B07C-4B7F-A398-B4E95731C9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AD2D-E41C-4A4F-95E0-040AC3764F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08AE-E8AD-4AED-A971-B74499B6F1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EB78-8BF2-4C07-AE09-959E302CA8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A9A9-6CE8-4863-A6ED-14502C1132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4EF5-C4EB-4DBC-893B-3C4F100BC6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79873" descr=""/>
          <p:cNvPicPr/>
          <p:nvPr/>
        </p:nvPicPr>
        <p:blipFill>
          <a:blip r:embed="rId1"/>
          <a:stretch/>
        </p:blipFill>
        <p:spPr>
          <a:xfrm>
            <a:off x="500040" y="1457280"/>
            <a:ext cx="8143920" cy="3943440"/>
          </a:xfrm>
          <a:prstGeom prst="rect">
            <a:avLst/>
          </a:prstGeom>
          <a:ln w="0">
            <a:noFill/>
          </a:ln>
        </p:spPr>
      </p:pic>
      <p:sp>
        <p:nvSpPr>
          <p:cNvPr id="1451" name="矩形 79874"/>
          <p:cNvSpPr/>
          <p:nvPr/>
        </p:nvSpPr>
        <p:spPr>
          <a:xfrm>
            <a:off x="7788240" y="3940200"/>
            <a:ext cx="49860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78849" descr=""/>
          <p:cNvPicPr/>
          <p:nvPr/>
        </p:nvPicPr>
        <p:blipFill>
          <a:blip r:embed="rId1"/>
          <a:stretch/>
        </p:blipFill>
        <p:spPr>
          <a:xfrm>
            <a:off x="490680" y="2428920"/>
            <a:ext cx="8162640" cy="2000160"/>
          </a:xfrm>
          <a:prstGeom prst="rect">
            <a:avLst/>
          </a:prstGeom>
          <a:ln w="0">
            <a:noFill/>
          </a:ln>
        </p:spPr>
      </p:pic>
      <p:sp>
        <p:nvSpPr>
          <p:cNvPr id="1453" name="矩形 78850"/>
          <p:cNvSpPr/>
          <p:nvPr/>
        </p:nvSpPr>
        <p:spPr>
          <a:xfrm>
            <a:off x="7724880" y="2987640"/>
            <a:ext cx="4982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7825" descr=""/>
          <p:cNvPicPr/>
          <p:nvPr/>
        </p:nvPicPr>
        <p:blipFill>
          <a:blip r:embed="rId1"/>
          <a:stretch/>
        </p:blipFill>
        <p:spPr>
          <a:xfrm>
            <a:off x="490680" y="1704960"/>
            <a:ext cx="8162640" cy="34480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77826"/>
          <p:cNvSpPr/>
          <p:nvPr/>
        </p:nvSpPr>
        <p:spPr>
          <a:xfrm>
            <a:off x="7750080" y="1704960"/>
            <a:ext cx="49860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76801" descr=""/>
          <p:cNvPicPr/>
          <p:nvPr/>
        </p:nvPicPr>
        <p:blipFill>
          <a:blip r:embed="rId1"/>
          <a:stretch/>
        </p:blipFill>
        <p:spPr>
          <a:xfrm>
            <a:off x="495360" y="771480"/>
            <a:ext cx="8153280" cy="5315040"/>
          </a:xfrm>
          <a:prstGeom prst="rect">
            <a:avLst/>
          </a:prstGeom>
          <a:ln w="0">
            <a:noFill/>
          </a:ln>
        </p:spPr>
      </p:pic>
      <p:sp>
        <p:nvSpPr>
          <p:cNvPr id="1457" name="矩形 76802"/>
          <p:cNvSpPr/>
          <p:nvPr/>
        </p:nvSpPr>
        <p:spPr>
          <a:xfrm>
            <a:off x="7737480" y="2225520"/>
            <a:ext cx="49860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89089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105760" cy="297180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89090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6239160" cy="1866960"/>
          </a:xfrm>
          <a:prstGeom prst="rect">
            <a:avLst/>
          </a:prstGeom>
          <a:ln w="0">
            <a:noFill/>
          </a:ln>
        </p:spPr>
      </p:pic>
      <p:sp>
        <p:nvSpPr>
          <p:cNvPr id="1460" name="矩形 89091"/>
          <p:cNvSpPr/>
          <p:nvPr/>
        </p:nvSpPr>
        <p:spPr>
          <a:xfrm>
            <a:off x="7661160" y="3470400"/>
            <a:ext cx="49860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90113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05760" cy="5848200"/>
          </a:xfrm>
          <a:prstGeom prst="rect">
            <a:avLst/>
          </a:prstGeom>
          <a:ln w="0">
            <a:noFill/>
          </a:ln>
        </p:spPr>
      </p:pic>
      <p:sp>
        <p:nvSpPr>
          <p:cNvPr id="1462" name="矩形 90114"/>
          <p:cNvSpPr/>
          <p:nvPr/>
        </p:nvSpPr>
        <p:spPr>
          <a:xfrm>
            <a:off x="7763040" y="3711600"/>
            <a:ext cx="4982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91137" descr=""/>
          <p:cNvPicPr/>
          <p:nvPr/>
        </p:nvPicPr>
        <p:blipFill>
          <a:blip r:embed="rId1"/>
          <a:stretch/>
        </p:blipFill>
        <p:spPr>
          <a:xfrm>
            <a:off x="533520" y="1209600"/>
            <a:ext cx="8076960" cy="44388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91138"/>
          <p:cNvSpPr/>
          <p:nvPr/>
        </p:nvSpPr>
        <p:spPr>
          <a:xfrm>
            <a:off x="7750080" y="2695680"/>
            <a:ext cx="49860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92161" descr=""/>
          <p:cNvPicPr/>
          <p:nvPr/>
        </p:nvPicPr>
        <p:blipFill>
          <a:blip r:embed="rId1"/>
          <a:stretch/>
        </p:blipFill>
        <p:spPr>
          <a:xfrm>
            <a:off x="533520" y="2200320"/>
            <a:ext cx="8076960" cy="2457360"/>
          </a:xfrm>
          <a:prstGeom prst="rect">
            <a:avLst/>
          </a:prstGeom>
          <a:ln w="0">
            <a:noFill/>
          </a:ln>
        </p:spPr>
      </p:pic>
      <p:sp>
        <p:nvSpPr>
          <p:cNvPr id="1466" name="矩形 92162"/>
          <p:cNvSpPr/>
          <p:nvPr/>
        </p:nvSpPr>
        <p:spPr>
          <a:xfrm>
            <a:off x="6429240" y="2733840"/>
            <a:ext cx="8924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92163"/>
          <p:cNvSpPr/>
          <p:nvPr/>
        </p:nvSpPr>
        <p:spPr>
          <a:xfrm>
            <a:off x="4284720" y="3716280"/>
            <a:ext cx="8920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93185" descr=""/>
          <p:cNvPicPr/>
          <p:nvPr/>
        </p:nvPicPr>
        <p:blipFill>
          <a:blip r:embed="rId1"/>
          <a:stretch/>
        </p:blipFill>
        <p:spPr>
          <a:xfrm>
            <a:off x="538200" y="1652760"/>
            <a:ext cx="8067600" cy="3552480"/>
          </a:xfrm>
          <a:prstGeom prst="rect">
            <a:avLst/>
          </a:prstGeom>
          <a:ln w="0">
            <a:noFill/>
          </a:ln>
        </p:spPr>
      </p:pic>
      <p:sp>
        <p:nvSpPr>
          <p:cNvPr id="1469" name="矩形 93186"/>
          <p:cNvSpPr/>
          <p:nvPr/>
        </p:nvSpPr>
        <p:spPr>
          <a:xfrm>
            <a:off x="7775640" y="4740120"/>
            <a:ext cx="4982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4209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007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6" descr=""/>
          <p:cNvPicPr/>
          <p:nvPr/>
        </p:nvPicPr>
        <p:blipFill>
          <a:blip r:embed="rId1"/>
          <a:stretch/>
        </p:blipFill>
        <p:spPr>
          <a:xfrm>
            <a:off x="509760" y="1795320"/>
            <a:ext cx="812448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95233" descr=""/>
          <p:cNvPicPr/>
          <p:nvPr/>
        </p:nvPicPr>
        <p:blipFill>
          <a:blip r:embed="rId1"/>
          <a:stretch/>
        </p:blipFill>
        <p:spPr>
          <a:xfrm>
            <a:off x="500040" y="1328760"/>
            <a:ext cx="8143920" cy="42004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95234"/>
          <p:cNvSpPr/>
          <p:nvPr/>
        </p:nvSpPr>
        <p:spPr>
          <a:xfrm>
            <a:off x="7750080" y="1857240"/>
            <a:ext cx="49860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96257" descr=""/>
          <p:cNvPicPr/>
          <p:nvPr/>
        </p:nvPicPr>
        <p:blipFill>
          <a:blip r:embed="rId1"/>
          <a:stretch/>
        </p:blipFill>
        <p:spPr>
          <a:xfrm>
            <a:off x="500040" y="1623960"/>
            <a:ext cx="8143920" cy="3610080"/>
          </a:xfrm>
          <a:prstGeom prst="rect">
            <a:avLst/>
          </a:prstGeom>
          <a:ln w="0">
            <a:noFill/>
          </a:ln>
        </p:spPr>
      </p:pic>
      <p:sp>
        <p:nvSpPr>
          <p:cNvPr id="1474" name="矩形 96258"/>
          <p:cNvSpPr/>
          <p:nvPr/>
        </p:nvSpPr>
        <p:spPr>
          <a:xfrm>
            <a:off x="7711920" y="2657520"/>
            <a:ext cx="49860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7281" descr=""/>
          <p:cNvPicPr/>
          <p:nvPr/>
        </p:nvPicPr>
        <p:blipFill>
          <a:blip r:embed="rId1"/>
          <a:stretch/>
        </p:blipFill>
        <p:spPr>
          <a:xfrm>
            <a:off x="480960" y="961920"/>
            <a:ext cx="8182080" cy="4934160"/>
          </a:xfrm>
          <a:prstGeom prst="rect">
            <a:avLst/>
          </a:prstGeom>
          <a:ln w="0">
            <a:noFill/>
          </a:ln>
        </p:spPr>
      </p:pic>
      <p:sp>
        <p:nvSpPr>
          <p:cNvPr id="1476" name="矩形 97282"/>
          <p:cNvSpPr/>
          <p:nvPr/>
        </p:nvSpPr>
        <p:spPr>
          <a:xfrm>
            <a:off x="7737480" y="3267000"/>
            <a:ext cx="49860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98305" descr=""/>
          <p:cNvPicPr/>
          <p:nvPr/>
        </p:nvPicPr>
        <p:blipFill>
          <a:blip r:embed="rId1"/>
          <a:stretch/>
        </p:blipFill>
        <p:spPr>
          <a:xfrm>
            <a:off x="414360" y="1866960"/>
            <a:ext cx="8315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99329" descr=""/>
          <p:cNvPicPr/>
          <p:nvPr/>
        </p:nvPicPr>
        <p:blipFill>
          <a:blip r:embed="rId1"/>
          <a:stretch/>
        </p:blipFill>
        <p:spPr>
          <a:xfrm>
            <a:off x="438120" y="1285920"/>
            <a:ext cx="8267760" cy="4286160"/>
          </a:xfrm>
          <a:prstGeom prst="rect">
            <a:avLst/>
          </a:prstGeom>
          <a:ln w="0">
            <a:noFill/>
          </a:ln>
        </p:spPr>
      </p:pic>
      <p:sp>
        <p:nvSpPr>
          <p:cNvPr id="1479" name="矩形 99330"/>
          <p:cNvSpPr/>
          <p:nvPr/>
        </p:nvSpPr>
        <p:spPr>
          <a:xfrm>
            <a:off x="7775640" y="3063960"/>
            <a:ext cx="4982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00353" descr=""/>
          <p:cNvPicPr/>
          <p:nvPr/>
        </p:nvPicPr>
        <p:blipFill>
          <a:blip r:embed="rId1"/>
          <a:stretch/>
        </p:blipFill>
        <p:spPr>
          <a:xfrm>
            <a:off x="457200" y="1795320"/>
            <a:ext cx="82296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7041" descr=""/>
          <p:cNvPicPr/>
          <p:nvPr/>
        </p:nvPicPr>
        <p:blipFill>
          <a:blip r:embed="rId1"/>
          <a:stretch/>
        </p:blipFill>
        <p:spPr>
          <a:xfrm>
            <a:off x="519120" y="1685880"/>
            <a:ext cx="8105760" cy="348624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7042"/>
          <p:cNvSpPr/>
          <p:nvPr/>
        </p:nvSpPr>
        <p:spPr>
          <a:xfrm>
            <a:off x="7800840" y="2212920"/>
            <a:ext cx="40968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86017" descr=""/>
          <p:cNvPicPr/>
          <p:nvPr/>
        </p:nvPicPr>
        <p:blipFill>
          <a:blip r:embed="rId1"/>
          <a:stretch/>
        </p:blipFill>
        <p:spPr>
          <a:xfrm>
            <a:off x="514440" y="1900080"/>
            <a:ext cx="8115120" cy="3057840"/>
          </a:xfrm>
          <a:prstGeom prst="rect">
            <a:avLst/>
          </a:prstGeom>
          <a:ln w="0">
            <a:noFill/>
          </a:ln>
        </p:spPr>
      </p:pic>
      <p:sp>
        <p:nvSpPr>
          <p:cNvPr id="1437" name="矩形 86018"/>
          <p:cNvSpPr/>
          <p:nvPr/>
        </p:nvSpPr>
        <p:spPr>
          <a:xfrm>
            <a:off x="7839000" y="4448160"/>
            <a:ext cx="40968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4993" descr=""/>
          <p:cNvPicPr/>
          <p:nvPr/>
        </p:nvPicPr>
        <p:blipFill>
          <a:blip r:embed="rId1"/>
          <a:stretch/>
        </p:blipFill>
        <p:spPr>
          <a:xfrm>
            <a:off x="671400" y="2224080"/>
            <a:ext cx="78012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83969" descr=""/>
          <p:cNvPicPr/>
          <p:nvPr/>
        </p:nvPicPr>
        <p:blipFill>
          <a:blip r:embed="rId1"/>
          <a:stretch/>
        </p:blipFill>
        <p:spPr>
          <a:xfrm>
            <a:off x="519120" y="1224000"/>
            <a:ext cx="8105760" cy="441000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3970"/>
          <p:cNvSpPr/>
          <p:nvPr/>
        </p:nvSpPr>
        <p:spPr>
          <a:xfrm>
            <a:off x="7800840" y="2212920"/>
            <a:ext cx="40968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2945" descr=""/>
          <p:cNvPicPr/>
          <p:nvPr/>
        </p:nvPicPr>
        <p:blipFill>
          <a:blip r:embed="rId1"/>
          <a:stretch/>
        </p:blipFill>
        <p:spPr>
          <a:xfrm>
            <a:off x="509760" y="1747800"/>
            <a:ext cx="8124480" cy="336240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2946"/>
          <p:cNvSpPr/>
          <p:nvPr/>
        </p:nvSpPr>
        <p:spPr>
          <a:xfrm>
            <a:off x="6124680" y="2238480"/>
            <a:ext cx="91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2947"/>
          <p:cNvSpPr/>
          <p:nvPr/>
        </p:nvSpPr>
        <p:spPr>
          <a:xfrm>
            <a:off x="2627280" y="2781360"/>
            <a:ext cx="917640" cy="32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2948"/>
          <p:cNvSpPr/>
          <p:nvPr/>
        </p:nvSpPr>
        <p:spPr>
          <a:xfrm>
            <a:off x="6740640" y="4221000"/>
            <a:ext cx="51120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2949"/>
          <p:cNvSpPr/>
          <p:nvPr/>
        </p:nvSpPr>
        <p:spPr>
          <a:xfrm>
            <a:off x="2627280" y="3716280"/>
            <a:ext cx="91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1921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210520" cy="2076480"/>
          </a:xfrm>
          <a:prstGeom prst="rect">
            <a:avLst/>
          </a:prstGeom>
          <a:ln w="0">
            <a:noFill/>
          </a:ln>
        </p:spPr>
      </p:pic>
      <p:pic>
        <p:nvPicPr>
          <p:cNvPr id="1447" name="图片 81922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81248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80897" descr=""/>
          <p:cNvPicPr/>
          <p:nvPr/>
        </p:nvPicPr>
        <p:blipFill>
          <a:blip r:embed="rId1"/>
          <a:stretch/>
        </p:blipFill>
        <p:spPr>
          <a:xfrm>
            <a:off x="528480" y="1957320"/>
            <a:ext cx="8087040" cy="2943360"/>
          </a:xfrm>
          <a:prstGeom prst="rect">
            <a:avLst/>
          </a:prstGeom>
          <a:ln w="0">
            <a:noFill/>
          </a:ln>
        </p:spPr>
      </p:pic>
      <p:sp>
        <p:nvSpPr>
          <p:cNvPr id="1449" name="矩形 80898"/>
          <p:cNvSpPr/>
          <p:nvPr/>
        </p:nvSpPr>
        <p:spPr>
          <a:xfrm>
            <a:off x="7826400" y="2505240"/>
            <a:ext cx="40968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6:59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